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23.jpeg" ContentType="image/jpeg"/>
  <Override PartName="/ppt/media/image8.jpeg" ContentType="image/jpeg"/>
  <Override PartName="/ppt/media/image5.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18.png" ContentType="image/png"/>
  <Override PartName="/ppt/media/image15.jpeg" ContentType="image/jpe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10325F8-BA68-4028-ACC0-D68F241DD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D54BBEC-FEFD-44AE-B6D7-37890BA56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8D9C01F-F768-4621-9EAD-3205319740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9E8FA32-1AC2-4F10-AA73-46508EB32C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AE9D2ED-32D0-40A6-AA68-C60E2206BE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1D223A1-F589-47B4-A931-32089FC8FC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24F4AE9-0CD5-4A80-9E62-484EEDE54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65A90F7-0FF5-4166-9EB6-5142EEA79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4C8B010-CAF0-435F-9582-9B95C4F3B9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8A39B46-D335-41D1-B4C5-A265EA9710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3F24674-2B90-4975-989C-41F6FB35F0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C0807EE-74AF-492D-AA07-F6B99A019B9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31BEDF0-92D8-431D-A09D-D71F1E98AD8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FBB53D2-49CF-4782-958F-D0B9B4217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701E2E-30E0-4D45-8F37-7E856F49C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23BA39-B08E-4E0D-90AB-15D63A008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A541DE-4754-49DC-B8E9-E285F640A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04C02E0-B214-4092-8648-98E73064B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A39207-3AF0-4970-99A1-69F102D6D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D7DF5D-37B7-4728-A667-9466D6FDE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191DBA0-DF94-4F25-89A7-7B4F9D735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CE4CB7-AD3E-430C-A600-FDB382361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5C2046-2D54-4619-8DEE-4AC1A70E2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7664D3-C521-4B8A-A59F-879639B98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C2E880E-B8D5-49AC-A840-03775C06B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B7B75F-35F9-4FB7-BACF-BD30953D1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FF93D-490B-4262-B765-47E1616804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8D740-0857-4D9F-9B36-BD5F6B358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123DD-8B3C-4642-B42E-0FE311C16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F0308-7C16-4F00-8A71-1DF5BA7873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1EB2F-385B-4A94-931C-7816B1633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3479DC9-CE02-46BE-82B7-570CC0D14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D1D05-719A-4BE8-95E3-45B042435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DB708-632D-49B2-87AD-81AC873FF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C3A8E-6875-4066-9D8A-ABA12A7DA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4E294-5EEB-4A1E-B2ED-9FC950066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7E3073-AB71-46EC-8BBE-4252A8415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5B838A-4BA4-4DE6-9AF7-5DE4DFD365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23B54C-C91D-48A5-A733-EB5DB21BB4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AF8793F-78F1-4839-B8ED-833A4C46A5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6E0141C-E985-4342-BE3A-16DD6C757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C47412-DA33-4AE6-AAB3-3F0453293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66E3941-6F9D-4F91-82A8-A4BA2EEA9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D60357-EC05-4AD0-9EF2-F282CB5450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7D79A7-82FD-46C0-9F2D-109EA0951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12B49A5-EDD1-40E8-985D-503C56B06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5E0949-D16C-4B8E-A225-E23D5C88D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161008-C284-42C8-B164-9F85206C0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42B48A-5412-4A3E-899F-0F19F531D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E541D7-C134-4174-9467-CAA4D610C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AE19812-A367-4DDA-8744-CDC7D27C34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2D4A5DA-9129-4F1F-ACA6-82CF1B6701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B40A8E-F044-4D65-A055-67D3ECCD0A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FCCAB1D-F651-49F9-96C7-C46874249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B1154-93F6-424A-BB38-B679C3BE8C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1ED025-23BD-400E-95BF-7DE712584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7F0A1-6D68-4F00-AB7C-A91204A3F2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74589-8F16-49B0-AB63-D0810D511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7DBAB9-FEFD-4E16-A707-275CDBB9AD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B0E7E-4A94-4E23-BA94-D6B65F03F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207E0-920F-45AA-A505-6F05BC6EB7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AE4CD-6E9A-498B-B1E2-7588CB84C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965EDB-0755-4860-96EA-60CA0516F1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31620D-A7B7-4D43-BE20-C5CECF8730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85FFD3D-558C-42A8-AA42-26A02B18B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D2A74C-0FF7-45D7-A212-E314687BD7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0C0586-7501-4800-8760-BA3E2DA44C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E5F0EE-3ADD-4A4A-934F-FB3270F7F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4012EF-687E-420B-A4B1-75D1C0A348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834D85-F126-4A49-9C5B-B3DFE0786F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E8B2E1-A9B9-4642-A9EF-479FAFAE2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5B0534-5BF2-49B8-8740-96240A6B91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96E82-64E9-4F06-AA58-E2ADBE0A3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102CEC-DA8C-450B-9166-D1D26EBFD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9D4D3-7B2C-4172-B4D0-50EEF792C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388F5FE-7CD9-4A74-9C01-14F8116946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F9C81C-4209-42A2-B0B1-995A93E8DD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47C9D3-A98D-47DF-A546-9956F4322F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C9FB98-89D3-41D4-875F-CB1B40762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A266EF-88C5-4658-9543-6B61C47FC2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8FFE37-6444-47EB-9446-373B9E8945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DE986-859E-4D7C-AF11-57288C45B6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FA55E-C145-411D-AE64-12EF0DEB86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37A7AE-1E74-4090-ADE9-79B31315E0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964383-53EF-49DE-9191-DC1FF87531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71ED93-EA71-44DA-A3BE-4C7594C5EE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1F33B0F-DC3E-45F2-8F5A-085A8B68B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B663A-AEE2-495E-ACCB-BC42913EFD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DD7CA2-42ED-4B99-9D7C-E1AE5C3A8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77FFAA-0317-47B4-BA5B-6A3B7C64A9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CE391A-5439-463A-A957-725CCAB8A6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59653E-A98D-454E-9826-816C0406F4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B0CFDF4-A354-449F-92C4-3EEB944759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5CF3D14-5C4A-4FB6-97D2-CD18397F4B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1AC2847-713A-4521-A655-7E3F4A69A3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0292A36-52CD-4BA2-9ED3-4F8186F40D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41130C3-BD61-4F86-BF10-CA2859AADF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2050812-B3E7-4724-8BC1-77FDA0FD1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1AAFD1A-8E2F-457D-8301-CF39AF512F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E607CCB-AA5D-421E-8732-5A04CB1ED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301C258-D7CB-4B7C-943A-81D4F5B77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EE51A76-4979-471E-B0DF-A36C3E9DC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540ACA4-0F84-41F8-9CFA-D5DD75B1C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2715F5BE-1CE6-4E04-932A-59885C9E10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D71F039-EED8-49FC-9812-292AF1FADD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33801C6-F17A-4F97-B357-A99E6E9435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1B3692A-C2CB-4543-A98E-953AE9712B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E7922F9-F18A-40F0-83FD-2CC86CD217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F546-CA20-4FBA-9425-763FBCC7905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DE00-0C3B-455A-AFBB-4C82AFC675A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E9B2-D901-4661-B6FF-C734C822A3F6}"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21F8-6809-4DB3-AD95-81AE67983F0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50C9-17FE-4AC7-9C3B-14C5B7FA312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B054-E3E2-41B6-945F-FA777F99783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C953-76F5-4E09-8951-6FC22D47E8F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C2BD-0500-462B-BD30-CB1CED4787C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3E0A-157E-4F31-A747-9F7BCC2360D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7200" y="378000"/>
            <a:ext cx="8418600" cy="2232000"/>
          </a:xfrm>
          <a:prstGeom prst="rect">
            <a:avLst/>
          </a:prstGeom>
          <a:ln w="0">
            <a:noFill/>
          </a:ln>
        </p:spPr>
      </p:pic>
      <p:sp>
        <p:nvSpPr>
          <p:cNvPr id="395" name="PlaceHolder 1"/>
          <p:cNvSpPr>
            <a:spLocks noGrp="1"/>
          </p:cNvSpPr>
          <p:nvPr>
            <p:ph type="subTitle"/>
          </p:nvPr>
        </p:nvSpPr>
        <p:spPr>
          <a:xfrm>
            <a:off x="2133360" y="2819520"/>
            <a:ext cx="6559560" cy="1752480"/>
          </a:xfrm>
          <a:prstGeom prst="rect">
            <a:avLst/>
          </a:prstGeom>
          <a:noFill/>
          <a:ln w="0">
            <a:noFill/>
          </a:ln>
        </p:spPr>
        <p:txBody>
          <a:bodyPr lIns="45720" rIns="24696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Just a few thing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450720" y="249120"/>
            <a:ext cx="8541000" cy="1165320"/>
          </a:xfrm>
          <a:prstGeom prst="rect">
            <a:avLst/>
          </a:prstGeom>
          <a:ln w="0">
            <a:noFill/>
          </a:ln>
        </p:spPr>
      </p:pic>
      <p:sp>
        <p:nvSpPr>
          <p:cNvPr id="41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onsider your words online just as you do face-to-fac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Respect each other’s privac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Do not post pictures or personal information of a friend (or enemy) to get  </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ack at someone </a:t>
            </a:r>
            <a:endParaRPr b="0" lang="en-US" sz="3200" spc="-1" strike="noStrike">
              <a:solidFill>
                <a:srgbClr val="ffffff"/>
              </a:solidFill>
              <a:latin typeface="Rockwell"/>
            </a:endParaRPr>
          </a:p>
        </p:txBody>
      </p:sp>
      <p:pic>
        <p:nvPicPr>
          <p:cNvPr id="415" name="Picture 2" descr="C:\Users\Mrs. Line\AppData\Local\Microsoft\Windows\Temporary Internet Files\Content.IE5\OIYNW0OJ\MP900448485[1].jpg"/>
          <p:cNvPicPr/>
          <p:nvPr/>
        </p:nvPicPr>
        <p:blipFill>
          <a:blip r:embed="rId2"/>
          <a:stretch/>
        </p:blipFill>
        <p:spPr>
          <a:xfrm>
            <a:off x="6781680" y="3809880"/>
            <a:ext cx="167652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1" descr=""/>
          <p:cNvPicPr/>
          <p:nvPr/>
        </p:nvPicPr>
        <p:blipFill>
          <a:blip r:embed="rId1"/>
          <a:stretch/>
        </p:blipFill>
        <p:spPr>
          <a:xfrm>
            <a:off x="450720" y="249120"/>
            <a:ext cx="8541000" cy="1165320"/>
          </a:xfrm>
          <a:prstGeom prst="rect">
            <a:avLst/>
          </a:prstGeom>
          <a:ln w="0">
            <a:noFill/>
          </a:ln>
        </p:spPr>
      </p:pic>
      <p:pic>
        <p:nvPicPr>
          <p:cNvPr id="417" name="Content Placeholder 3" descr="3 people.jpg"/>
          <p:cNvPicPr/>
          <p:nvPr/>
        </p:nvPicPr>
        <p:blipFill>
          <a:blip r:embed="rId2"/>
          <a:stretch/>
        </p:blipFill>
        <p:spPr>
          <a:xfrm>
            <a:off x="762120" y="1295280"/>
            <a:ext cx="7497720" cy="512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450720" y="249120"/>
            <a:ext cx="8541000" cy="1165320"/>
          </a:xfrm>
          <a:prstGeom prst="rect">
            <a:avLst/>
          </a:prstGeom>
          <a:ln w="0">
            <a:noFill/>
          </a:ln>
        </p:spPr>
      </p:pic>
      <p:pic>
        <p:nvPicPr>
          <p:cNvPr id="419" name="Content Placeholder 3" descr="pen.jpg"/>
          <p:cNvPicPr/>
          <p:nvPr/>
        </p:nvPicPr>
        <p:blipFill>
          <a:blip r:embed="rId2"/>
          <a:stretch/>
        </p:blipFill>
        <p:spPr>
          <a:xfrm rot="20458200">
            <a:off x="949320" y="1356840"/>
            <a:ext cx="188604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450720" y="249120"/>
            <a:ext cx="8541000" cy="1165320"/>
          </a:xfrm>
          <a:prstGeom prst="rect">
            <a:avLst/>
          </a:prstGeom>
          <a:ln w="0">
            <a:noFill/>
          </a:ln>
        </p:spPr>
      </p:pic>
      <p:sp>
        <p:nvSpPr>
          <p:cNvPr id="39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nternet safety is not a bunch of rul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t i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void being</a:t>
            </a:r>
            <a:endParaRPr b="0" lang="en-US" sz="2600" spc="-1" strike="noStrike">
              <a:solidFill>
                <a:srgbClr val="ffffff"/>
              </a:solidFill>
              <a:latin typeface="Rockwell"/>
            </a:endParaRPr>
          </a:p>
          <a:p>
            <a:pPr lvl="2" marL="822240" indent="-190440">
              <a:spcBef>
                <a:spcPts val="4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Rockwell"/>
              </a:rPr>
              <a:t>Scammed</a:t>
            </a:r>
            <a:endParaRPr b="0" lang="en-US" sz="2300" spc="-1" strike="noStrike">
              <a:solidFill>
                <a:srgbClr val="ffffff"/>
              </a:solidFill>
              <a:latin typeface="Rockwell"/>
            </a:endParaRPr>
          </a:p>
          <a:p>
            <a:pPr lvl="2" marL="822240" indent="-190440">
              <a:spcBef>
                <a:spcPts val="4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Rockwell"/>
              </a:rPr>
              <a:t>Disrespected</a:t>
            </a:r>
            <a:endParaRPr b="0" lang="en-US" sz="2300" spc="-1" strike="noStrike">
              <a:solidFill>
                <a:srgbClr val="ffffff"/>
              </a:solidFill>
              <a:latin typeface="Rockwell"/>
            </a:endParaRPr>
          </a:p>
          <a:p>
            <a:pPr lvl="2" marL="822240" indent="-190440">
              <a:spcBef>
                <a:spcPts val="4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Rockwell"/>
              </a:rPr>
              <a:t>Bullied</a:t>
            </a:r>
            <a:endParaRPr b="0" lang="en-US" sz="2300" spc="-1" strike="noStrike">
              <a:solidFill>
                <a:srgbClr val="ffffff"/>
              </a:solidFill>
              <a:latin typeface="Rockwell"/>
            </a:endParaRPr>
          </a:p>
          <a:p>
            <a:pPr lvl="2" marL="822240" indent="-190440">
              <a:spcBef>
                <a:spcPts val="4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Rockwell"/>
              </a:rPr>
              <a:t>Stalked</a:t>
            </a:r>
            <a:endParaRPr b="0" lang="en-US" sz="2300" spc="-1" strike="noStrike">
              <a:solidFill>
                <a:srgbClr val="ffffff"/>
              </a:solidFill>
              <a:latin typeface="Rockwell"/>
            </a:endParaRPr>
          </a:p>
        </p:txBody>
      </p:sp>
      <p:pic>
        <p:nvPicPr>
          <p:cNvPr id="398" name="Picture 3" descr="group1.jpg"/>
          <p:cNvPicPr/>
          <p:nvPr/>
        </p:nvPicPr>
        <p:blipFill>
          <a:blip r:embed="rId2"/>
          <a:stretch/>
        </p:blipFill>
        <p:spPr>
          <a:xfrm>
            <a:off x="4800600" y="3809880"/>
            <a:ext cx="3733920" cy="187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450720" y="249120"/>
            <a:ext cx="8541000" cy="1165320"/>
          </a:xfrm>
          <a:prstGeom prst="rect">
            <a:avLst/>
          </a:prstGeom>
          <a:ln w="0">
            <a:noFill/>
          </a:ln>
        </p:spPr>
      </p:pic>
      <p:pic>
        <p:nvPicPr>
          <p:cNvPr id="400" name="Content Placeholder 3" descr="comodity.jpg"/>
          <p:cNvPicPr/>
          <p:nvPr/>
        </p:nvPicPr>
        <p:blipFill>
          <a:blip r:embed="rId2"/>
          <a:stretch/>
        </p:blipFill>
        <p:spPr>
          <a:xfrm>
            <a:off x="2095560" y="2583000"/>
            <a:ext cx="4952880" cy="265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0720" y="249120"/>
            <a:ext cx="8541000" cy="1165320"/>
          </a:xfrm>
          <a:prstGeom prst="rect">
            <a:avLst/>
          </a:prstGeom>
          <a:ln w="0">
            <a:noFill/>
          </a:ln>
        </p:spPr>
      </p:pic>
      <p:sp>
        <p:nvSpPr>
          <p:cNvPr id="402"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elps companies provide you ads that are more targeted to your interests, it helps researchers know what kind of products to design, and so on.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ut your information is also used in negative and sometimes criminal way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249120"/>
            <a:ext cx="8491680" cy="11588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Rockwell"/>
              </a:rPr>
              <a:t>By someone who wants to embarrass or bully you.</a:t>
            </a:r>
            <a:endParaRPr b="0" lang="en-US" sz="2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Rockwell"/>
              </a:rPr>
              <a:t>Plagiarists who want to claim your content as their own</a:t>
            </a:r>
            <a:endParaRPr b="0" lang="en-US" sz="2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Rockwell"/>
              </a:rPr>
              <a:t>By companies who want to use your information in ways that act against your interests </a:t>
            </a:r>
            <a:endParaRPr b="0" lang="en-US" sz="25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Insurance companies are using information posted on blogs to deny coverage of medical claims, car accident claims, and so on.</a:t>
            </a:r>
            <a:endParaRPr b="0" lang="en-US" sz="20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ompanies may reject your job application, find reasons to fire you, and so on.</a:t>
            </a:r>
            <a:endParaRPr b="0" lang="en-US" sz="20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Rockwell"/>
              </a:rPr>
              <a:t>By criminal organizations or individuals building profiles of people to scam, steal identities, hijack computers, find interesting homes to break into or cars to steal,  people to physically harm, and so on</a:t>
            </a:r>
            <a:endParaRPr b="0" lang="en-US" sz="2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244440" y="249120"/>
            <a:ext cx="8747280" cy="116532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urvey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Videos and imag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News articl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logs/RSS feed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Gaming and shopping activitie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49120"/>
            <a:ext cx="8541000" cy="1165320"/>
          </a:xfrm>
          <a:prstGeom prst="rect">
            <a:avLst/>
          </a:prstGeom>
          <a:ln w="0">
            <a:noFill/>
          </a:ln>
        </p:spPr>
      </p:pic>
      <p:pic>
        <p:nvPicPr>
          <p:cNvPr id="408" name="Content Placeholder 3" descr="conditions.jpg"/>
          <p:cNvPicPr/>
          <p:nvPr/>
        </p:nvPicPr>
        <p:blipFill>
          <a:blip r:embed="rId2"/>
          <a:stretch/>
        </p:blipFill>
        <p:spPr>
          <a:xfrm>
            <a:off x="1143000" y="1523880"/>
            <a:ext cx="702144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450720" y="249120"/>
            <a:ext cx="8541000" cy="1165320"/>
          </a:xfrm>
          <a:prstGeom prst="rect">
            <a:avLst/>
          </a:prstGeom>
          <a:ln w="0">
            <a:noFill/>
          </a:ln>
        </p:spPr>
      </p:pic>
      <p:pic>
        <p:nvPicPr>
          <p:cNvPr id="410" name="Content Placeholder 3" descr="jessica.jpg"/>
          <p:cNvPicPr/>
          <p:nvPr/>
        </p:nvPicPr>
        <p:blipFill>
          <a:blip r:embed="rId2"/>
          <a:stretch/>
        </p:blipFill>
        <p:spPr>
          <a:xfrm>
            <a:off x="457200" y="1371600"/>
            <a:ext cx="7889760" cy="51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450720" y="249120"/>
            <a:ext cx="8541000" cy="1165320"/>
          </a:xfrm>
          <a:prstGeom prst="rect">
            <a:avLst/>
          </a:prstGeom>
          <a:ln w="0">
            <a:noFill/>
          </a:ln>
        </p:spPr>
      </p:pic>
      <p:pic>
        <p:nvPicPr>
          <p:cNvPr id="412" name="Content Placeholder 3" descr="chelsie.jpg"/>
          <p:cNvPicPr/>
          <p:nvPr/>
        </p:nvPicPr>
        <p:blipFill>
          <a:blip r:embed="rId2"/>
          <a:stretch/>
        </p:blipFill>
        <p:spPr>
          <a:xfrm>
            <a:off x="2089080" y="2220840"/>
            <a:ext cx="4965840" cy="337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24:37Z</dcterms:created>
  <dc:creator>Mrs. Line</dc:creator>
  <dc:description/>
  <dc:language>en-US</dc:language>
  <cp:lastModifiedBy>Mrs. Line</cp:lastModifiedBy>
  <dcterms:modified xsi:type="dcterms:W3CDTF">2012-09-11T13:14:07Z</dcterms:modified>
  <cp:revision>4</cp:revision>
  <dc:subject/>
  <dc:title>Slide 1</dc:title>
</cp:coreProperties>
</file>